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0D4-0177-4753-9988-06398533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782-C8AB-451D-9A6A-F9A7A2D3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4B2-AD02-499D-8F21-6F51EB86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21A-BEB2-4838-B8F3-2237F764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142-81C2-40D4-8A3B-D06F5A17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F75-2279-491F-8471-F16D55C8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BE3-A68B-4C26-96AB-E704137A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1BF-33E8-45B8-B1A1-98913852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1EE-1C05-4EA8-9DAE-8A5074E5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D85-8850-4374-B106-E3E70EC1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0A0-93B0-4C46-A535-304B5B0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801-59AA-4A7D-BC58-A915E734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C0E7-C09B-4682-AAA2-F94F8266157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it 4 Outcome 1, Spreadshee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Organisations and Information Needs, Ch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fficient softwar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of naming ranges and Vlook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VLOOKUP(E10,homeroom_totals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ell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sert notes/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tive &amp; absolute cell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lectronic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fficient software fun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heet re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ditional format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2745" t="33819" r="34898" b="42633"/>
          <a:stretch/>
        </p:blipFill>
        <p:spPr>
          <a:xfrm>
            <a:off x="826920" y="3141720"/>
            <a:ext cx="7417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Goals of information systems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ypes of decisions: (revised) strategic, tactical and operational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rategic plan is a process for identifying long term goals within an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stablishing a set of common goals that will help accomplish the organisations ai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bjectives are small achievable tasks undertaken to accomplish a big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inguish b/w goals of non-profit &amp; for-profi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S goals: efficiency, improving effectiveness, improving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fficien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, Cost, Time &amp;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ffective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uality of output, accuracy, presentation &amp; comprehens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proved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quires 3 factors, sufficient information, communication and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ole of H/W &amp; S/W components of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readsheet Software, formats &amp; conven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s right aligned in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money values usually have two decimal places or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subtotals have a single line above the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grand totals have a single or double line below the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grand totals are in b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graphs and charts must have titles identifying the name of the organisation and purpose of the graph or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x and y axis must be lab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limit the number of items represented in a chart to five or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ports: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centre a page on a sheet horizont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briefly explain the purpose of the spreadsheet and identify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where cells require user input, clearly label what has to be entered, left sid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list all equations used in a separate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preadsheets,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nge checking, use of IF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istence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ata type checking, eg. integers, date, alignment of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stricted data entry, drop 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alidation alerts, pop up dialog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Validation &amp;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alidation – is involved with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input;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sting is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; testing also checking electronic vali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nctionality, eg. test formulas &amp; functions, eg. test both upper &amp; lower boundaries of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ropriate audience, difficult to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st for formats &amp;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te space, fonts, consistent fonts &amp; sizes, background color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ability testing; must be user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asy accessible to us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yperlinks work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mount of sc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orksheets clearly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users accidentally delete formulas or chance validation rules; input cells un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essi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oes solution open at right w/sh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nt sizes easy to read; limited use of red &amp;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munication of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portant information clear &amp; obvious; keep it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fference b/w usability testing &amp; accessibility 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ability testing focuses on whether all buttons &amp; functions work correctl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ccessibility is focused on ease of use of spreadsheet and whether it conveys the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fficient software fun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IF(D2&gt;=2000,"Gold",IF(D2&gt;=1000,"Silver",IF(D2&gt;=50,"Bronze",""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unt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COUNTIF(E2:E19,"Gold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um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SUMIF(Fundraising_Homeroom,"7A",Fundraising_Am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1:24:28Z</dcterms:created>
  <dc:creator>Kelvin Baird</dc:creator>
  <dc:description/>
  <dc:language>en-US</dc:language>
  <cp:lastModifiedBy>01421606</cp:lastModifiedBy>
  <dcterms:modified xsi:type="dcterms:W3CDTF">2009-06-18T03:38:01Z</dcterms:modified>
  <cp:revision>6</cp:revision>
  <dc:subject/>
  <dc:title>Unit 4 Outcome 1, Spreadsheet software</dc:title>
</cp:coreProperties>
</file>